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D3E-0C42-4317-9809-74364132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033-E935-4DF8-9181-F145F7A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F88-3F7E-4102-A9D9-D44FCB73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911-1A69-4AC7-A56F-1CFEE8B2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61F-F134-40B9-80E5-64D97399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C395-BCB1-45E6-AC5E-E8DDA77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B3B7-80D0-417F-9C0B-C9A162E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03F-E204-4ACA-BE6F-5AFE91B9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D63-4366-485B-8128-996E40A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9768-6A98-48B4-BD08-5E2D9B79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FB4C-786A-42B9-9BAD-5CC88E0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D44-DD14-4D3C-A768-7768512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F34-92E3-4FB5-B6DB-A79270ED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8779-B767-4B26-ABFD-037BFD2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0D19-16EC-4195-9E70-8B092D65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7F33-2B44-47D3-83EF-C06178F2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468-CA8F-4663-A6E4-973341F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4E2-4B5E-459D-B68C-189512F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194-6C21-47DB-9587-D2F59748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7B1-159F-45FF-94B0-70E08AFD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E51-AF97-4597-AC75-C665DD80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9FE-935A-4F84-BBD6-B5119587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65A-23B9-497C-B000-FB8A28C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A7A-2A4E-43AB-9A84-78001BC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7AD-26FD-4C43-88E7-A70C788DBF4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46A8-23F9-4932-B1B3-FFD882D4E6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786-2168-4A15-A818-8357A62226F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6556-38BF-4FCC-9953-E9F3DB966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4946-83E9-443E-926A-5ECFCD704A4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339C-E328-40D6-8467-ECC290BE6F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Federal Court System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 Balaz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C80-6090-479E-B8CF-23B58BB63C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33EF-7FB7-4AFF-9EAB-7F1C1324A5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dministrative Ruling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gency established by Congress and the Executive makes a ruling regarding a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Environmental Protection Agency (EPA) determines the amount of Arsenic allowed in drinking water should be reduced. A Town water supply in Arizona is effected and 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US Parks Service rules that wolves should be reintroduced to Yellowstone Park. A rancher sues the US government maintaining that his cattle will be endanger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ample: Interest group sues Health and Human Services claiming that the waivers granted to some businesses for Healthcare are improper---BUT? DO THEY HAVE STANDING??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C28-6249-4808-83C9-AA785FBF5C3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95E-318C-49EE-8D62-6B021D22B8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Treati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Treaties under the US Constitution become Federal Law and are Supreme to Stat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igns a multilateral treaty requiring that when a foreign national is arrested the foreign citizen’s home embassy must be no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Defendant, a foreign national, is convicted of murder claims that his rights were violated when his embassy wasn’t not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656-40A8-45E3-ADCB-B81B561645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0E45-C8C1-4757-9179-E5D5368CF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versity of Citizenship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ase involves two parties from different States they can choose to begin the case in Federal Court provided the case involves more than $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y did they make this a FEDERAL cas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OTS OF PERSONAL INJURY CASES—SOME CONTRACT C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228-D3ED-4CBD-B497-7253E0344E2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FE9A-DA63-4B5A-8B3A-63A3FF9CA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Other Cases 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suing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Y and NJ have a law suit to help determine who owns Governors Is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—how many times do states argue about border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ose rare original jurisdiction cases for th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3FA4-F828-42BB-A584-785DB049562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451-3FFA-43BD-99FC-386ABD288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ich Federal Court do I go to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divided the US into 12 Circu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Circuit is then divided into parts with at least one Federal District Court in each Sta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0%+ of all cases that start in the Federal System begin in Federal District Court- (there’s a bunch of administrative cour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District Courts are present in most major C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789-31FD-4DC4-B536-D4D0194E211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D809-8B36-4A0B-9DAE-203404F285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apusct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32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31D8-1EC9-4C7B-94A5-113E81417EE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ppellate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Circuit Courts and except in rare cases, the US Supreme Court are Appellate Cour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ppellate Court DOES NOT TRY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 Courts are designed to review mistakes made at the Trial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xcept in rare cases, a trial must have gone to verdict before anything can be appeal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“objecting” an attorney preserves the issue so that it can potentially later be appea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appellate briefs are generally limited to matters preserved at the trial lev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1231-EA20-47B8-93FA-0FD8A940755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5F29-2583-49E3-9B26-DB36CB156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District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the Case in US Distric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y the f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o poor to pay fee, Court can hold the Fee is waived - In Forma Pauperis (true with ALL FILING F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ve the summons and complaint on the other Pa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ivi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er- Petition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son getting sued? Respond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ly an Issue of Liability (fault) and $$$$$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riminal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ted States is the Plainti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restee is the Defenda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ry Trial is automatic if Defendant can get 1 or more years of incarceration. Only Defendant can waiv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animous Jury finding required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ACA-7C12-4474-BB46-D1E0BCCEB49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6A0-291D-41D1-91B3-EA7CC31CE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Circuit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Circuit Courts are Appellate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trial in US District Court the disgruntled litigant can try to appeal the case to US District Co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 Court cases can also be appealed to US Circuit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Circuit Courts must hear all cases properly f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B3A-89FD-4491-800C-EEBAE1B4D7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895B-3EC9-46F7-B365-17AF20D6EB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US Supreme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Case with th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ionary Juris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 least 4 judges must certify (grant certiorari) to hear the c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cases, 90%+, are not he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.9% only appellate Juris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Judges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ef Judge runs the Courthouse and when holding with the majority decides who writes the opin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80" y="685800"/>
          <a:ext cx="8686800" cy="62578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min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v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 prosec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l, organization, State 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rant/Arrest/Grand Jury/Indictment- Fed system requires Grand Jury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ng Compla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lizes- Malum per se/Prohib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nsation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il-Loss of Liber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$$$-pay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Jury Trial r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be Ju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inmous Ju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ity/Supermajor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9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of beyond Reasonable Doub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onderance of the E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69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T GENERALLY REQU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LIGENCE OFTEN SU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9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C9CE-EAA0-4E43-89DF-11346D8945A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209B-931B-4F7F-AC66-A131298F32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E543-616E-450C-BA62-642856B4616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9995-4521-4D96-9803-95346F3424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on  Law OR Case Law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ower courts are bound by the decisions determined by higher cou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Supreme Court is the highest Court in the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r Holdings- Set Precedent (CASE LA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e Decisis- NOT A DISEASE- BUT THE COURT’S RELUCTANCE TO OVERTURN ITS OWN PRECE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 Supreme Court does not rule on an issue, different States and different Circuit Courts may have different ru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icial Review- The right of the Court to review the actions of the legislative and executive branches. NOT SPECIFICALLY SET FORTH IN US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BA4-7ACC-4BBC-B99E-031FA991C53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665-304C-422B-9127-0D404D846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aw 101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itioner sues Respo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aims Jurisdiction under Federal Question or other me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ial held in US District Cou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ry makes 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Litigant files Appeal in Circui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aims Trial Court made an error of LAW (not fac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ler-Appellant, other party- Appell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ir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ppellant files f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parties file briefs (reports setting forth the legal arguments with case law to back the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es make oral argument ( not a retrial- no eviden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rcuit Court makes a dec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53B5-A757-44D3-8D46-AC44CEFA870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C87D-D7DF-4492-B67C-AED4021F7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Law 101a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it Court makes ho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rse lower court on the issue presented with instructions (remand) to Trial Judge. This may require a new trial at the District Co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ss the Appellant’s Case- Trial Court ruling h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set of Judges hear the case and there may be a majority and minority dec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gruntled Party may try to file case with US Supreme Court request’s CERTIOR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les case with US Supreme Court- BECOMES APPELL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urt reviews to determine if this is the “type” of case they should h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the Court says no- prior Circuit Court ruling hol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4 of 9 Judges agree to hear the case, case is he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428-98C4-472E-A7D6-128F25FAB9D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C2DD-0D74-4ABE-9706-4BA15D32EB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eet the Suprem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720" y="160020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Judges they get to ask questio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l Argument (30 minutes each) and a brief is f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 makes ruling- A 5-4 decision is as binding as a 9-0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ef Judge is the “first amongst equals” (ok…that’s supposed to be the Pope)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J helps run the Court as a “bureaucracy”, makes sure the trains run on time (ok…that was Mussolini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J is w/the majority---than s/he decides who writes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pinion has to get 5 Judges (if 9 are vo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urring Opin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nting Opinions- dissent in Plessy v. Ferguson -&gt; underlying theory for majority in Brown v. Bd of 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dies? See above for Appellate Cou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8FB-5CD5-4C43-9197-6700601DA4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0C9-ACFD-4402-A783-79A8C2CAC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More info?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2971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uscourts.gov/faq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Cour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jud.state.ct.us/courts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en can I go to Court?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49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ing- am I the one harm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iciability- is there a reme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eness- Has the event happened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ADVISORY OPINION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- Can I get an attorney and/or pay the filing f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Class Actions-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rtifi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. Women employees suing Wal-Mart- one class?  Families of everyone who’s injured by toyota brake ped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1B6-930B-4403-A8B0-3269EBBA465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93C2-3A2C-4B34-9682-9A78CF8BC1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TATE v. FEDERAL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“federal” matter more important?NOOOOOOOOOOOOOOOOOOOOOOOOOOOOOOOOOOOOOOOOOO—it might 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hooses the Cou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k to where the event took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vil suit- residence of pa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cases can go to either—some cases can’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3F6-DDF1-4A95-8C3D-BA2BDC6C1E2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A2B-86CC-4566-B4E7-9898E1764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86F-AF7C-47C7-ADBB-8D3580E27BE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247-EC4D-40EE-B81C-5EF336648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COUR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upreme Cou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ed by Constit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 v. Original Juris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llate—case decided, check for question of law—NOT 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Jurisdiction—here’s the full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r US Circuit Courts and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Con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3BA-1C51-4149-8DB6-C0EE9E1C91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B8A-77A2-41C1-9F09-A70B68180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deral Court Jurisdic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s arising out of Feder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itutional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La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ecutive Or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ve Rul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deral Trea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ersity of Citizenship (not national citizenshi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s v.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DBD-5088-417C-AEC6-064A3E3B4ED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BD4-AF45-4D69-975E-50CFDADA1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stitutional Law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ty claims that there case involves a Constitutional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hn is denied admission to the Univ of Michigan and sues the school claiming that his 14th Amendment Equal Protection rights were violated when the school used race as a factor in its admission poli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h is arrested for murder and claims that her 4th Amendment rights against improper search and seizure were violat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vernor Bush sues VP Gore claiming that his 14th Amendment rights to Equal Protection will be violated if Florida recounts only certain districts ballo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Attorney Generals allege that the Health Care Law violates the 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052-7E0D-4CF7-8F51-8B63597A8E1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B8C-DD98-408C-9469-05694D955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ases involving Federal law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pass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 Casey Martin and the Americans w/Disabilities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sues US PGA to allow him to use a golf cart on the pro circuit claims that he’s protected by the American w/Disabilities Act (NOTE HE’S NOT SUING THE US GOVERNMENT BUT USING A FEDERAL STATUTE TO BASE HIS LAWS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782-C027-447D-9B52-B2783E0B947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F55-F115-4CA8-ABFA-E367AFDC59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ecutive Order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signs an order and someone effected by the Order begins a law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Executive Order President Carter freezes Iranian assets after the US Embassy is taken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suit by a creditor to obtain mo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dministrator</cp:lastModifiedBy>
  <cp:lastPrinted>1904-01-01T00:00:00Z</cp:lastPrinted>
  <dcterms:modified xsi:type="dcterms:W3CDTF">2011-04-12T13:48:54Z</dcterms:modified>
  <cp:revision>30</cp:revision>
  <dc:subject/>
  <dc:title>General</dc:title>
</cp:coreProperties>
</file>